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E883-CE26-43E4-9442-6BA1B2748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AAED-0D78-4AD1-8FB7-39EDBA0971C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7C11-2FD3-464B-9B19-C79F9DDA625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BAC7-C252-4555-B0BE-BA5D2FA2BE9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CBF6-D8F5-426E-BB16-957D1845C84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6040-484B-420B-BFB4-1844B98CB62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57CF-BA01-4B72-A582-8D703A523D4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916-E62F-4993-B274-3436D5EE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748-CD5F-45DB-AA8E-9DB1C1AD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BD0-5B98-411E-B154-83B5E4A1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192-1EE2-4BCA-90E9-0F3B6AEA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51D3-9A87-40AF-8035-58AB2AF4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6AD0-7F81-4CBD-A6ED-C45C2231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6FC7-8432-4367-96EC-4C3A0C61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89D5-88DE-491F-B613-2EED9F56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756E-03B5-46F1-9BA3-8022A896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9D62-5494-4802-86F6-0D0C33E1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DC0A-0BCD-437B-98B6-CEF0D61F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90FB-6809-4693-9E22-FE9B1206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1917-2FC9-4B39-AB53-B9F84C6A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2BB6-2FF6-4685-A033-72591238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86D2-6847-4A18-93B6-965F141A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089F-49A9-457F-B45D-793E040C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4856-4AAC-4898-B517-B159CDFB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831DA-5D96-4574-8A8B-AE56773E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9C047-B543-46CB-B00B-AABBC96B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F0929-BE3C-452B-8B48-015A6FA0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AB72B-9562-4203-8327-E9F353A7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BE0E2-7416-4F91-A96D-930F81D3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D63-C1E2-40C7-8FA9-6477FF11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F9086-CEBF-428A-9123-47FC3D4B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D76FE-AAE8-4CFA-AD81-941C7F11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235A6-2960-4260-95FB-30D49FF5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47E83-1B8D-45B9-AD87-8DE19013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FFE29-F6A5-44D8-9A04-A5ECD191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A41F9-701F-411C-AAF7-4DE39BAC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73D07-25FB-4991-8825-2F2A9115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82986-9861-408B-8F20-E5DAAC11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46A7D-FABF-4E6F-817E-5D71BD80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B4217-81B8-4B29-BF07-4DBAE1E1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C3C-8B6A-429B-862E-04E665C1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37EEB-1A09-40DF-97C8-3A9F38D7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4F20E-7D17-44D3-99DC-A05FE75B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49BEE-92BD-4AF8-A2D5-C8A9D017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CC128-6318-49D7-BD87-6BFFDA7A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B1DC8-E12C-4486-AAF7-82694936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090D2-AC5F-45CF-9881-1BD8B141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C052C-AE5E-49CB-ACCE-B44C2AAA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93067-F4F9-4497-AF7C-4FA4DA0C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987F0-8F4B-4AB7-833F-E9F952F6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84D-DA7B-4541-A0CA-FE290A9B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EAC-8495-4823-B6A1-B00E34DB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5D6-00DF-4234-9279-0E6CDD6F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C99-C4A5-4D9D-A9D6-FD524E84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0E1-EB06-468E-9B12-6E00A60D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F287-E07A-42A6-8C89-899437BC0983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D93C-C0F9-4AFE-BE0C-C6700D28058F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D8AC-A65C-42AB-9300-A73E7CA55ED4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6B6B-6B09-41EC-8BE6-3FA940832C1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c600"/>
                </a:solidFill>
                <a:latin typeface="Century Gothic"/>
              </a:rPr>
              <a:t>Introduction to Literature:</a:t>
            </a:r>
            <a:br>
              <a:rPr sz="3200"/>
            </a:br>
            <a:r>
              <a:rPr b="0" lang="en-US" sz="3200" spc="-1" strike="noStrike">
                <a:solidFill>
                  <a:srgbClr val="94c600"/>
                </a:solidFill>
                <a:latin typeface="Century Gothic"/>
              </a:rPr>
              <a:t>Reading Critically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Prof. Everson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ENGL 201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85680"/>
            <a:ext cx="66373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What is Critical Reading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You have learned how to read throughout your schooling, mostly at the level of </a:t>
            </a:r>
            <a:r>
              <a:rPr b="1" lang="en-US" sz="2700" spc="-1" strike="noStrike">
                <a:solidFill>
                  <a:srgbClr val="898989"/>
                </a:solidFill>
                <a:latin typeface="Century Gothic"/>
              </a:rPr>
              <a:t>decoding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, 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entury Gothic"/>
              </a:rPr>
              <a:t>reading for information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.  At the college level, you will be required to go </a:t>
            </a:r>
            <a:r>
              <a:rPr b="1" lang="en-US" sz="2700" spc="-1" strike="noStrike">
                <a:solidFill>
                  <a:srgbClr val="0070c0"/>
                </a:solidFill>
                <a:latin typeface="Century Gothic"/>
              </a:rPr>
              <a:t>beyond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 </a:t>
            </a:r>
            <a:r>
              <a:rPr b="1" i="1" lang="en-US" sz="2700" spc="-1" strike="noStrike">
                <a:solidFill>
                  <a:srgbClr val="898989"/>
                </a:solidFill>
                <a:latin typeface="Century Gothic"/>
              </a:rPr>
              <a:t>extracting</a:t>
            </a:r>
            <a:r>
              <a:rPr b="1" lang="en-US" sz="2700" spc="-1" strike="noStrike">
                <a:solidFill>
                  <a:srgbClr val="898989"/>
                </a:solidFill>
                <a:latin typeface="Century Gothic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information from texts. 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You must begin to read </a:t>
            </a:r>
            <a:r>
              <a:rPr b="1" lang="en-US" sz="2700" spc="-1" strike="noStrike">
                <a:solidFill>
                  <a:srgbClr val="94c600"/>
                </a:solidFill>
                <a:latin typeface="Century Gothic"/>
              </a:rPr>
              <a:t>carefully</a:t>
            </a:r>
            <a:r>
              <a:rPr b="0" lang="en-US" sz="27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and </a:t>
            </a:r>
            <a:r>
              <a:rPr b="1" lang="en-US" sz="2700" spc="-1" strike="noStrike">
                <a:solidFill>
                  <a:srgbClr val="94c600"/>
                </a:solidFill>
                <a:latin typeface="Century Gothic"/>
              </a:rPr>
              <a:t>actively 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engage the ideas you encounter.  This level of reading is called </a:t>
            </a:r>
            <a:r>
              <a:rPr b="1" lang="en-US" sz="2700" spc="-1" strike="noStrike">
                <a:solidFill>
                  <a:srgbClr val="898989"/>
                </a:solidFill>
                <a:latin typeface="Century Gothic"/>
              </a:rPr>
              <a:t>“critical reading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.” It takes time and practice to develop the ability to read critically.  At first you will need to </a:t>
            </a:r>
            <a:r>
              <a:rPr b="1" lang="en-US" sz="2700" spc="-1" strike="noStrike">
                <a:solidFill>
                  <a:srgbClr val="898989"/>
                </a:solidFill>
                <a:latin typeface="Century Gothic"/>
              </a:rPr>
              <a:t>read a text </a:t>
            </a:r>
            <a:r>
              <a:rPr b="1" lang="en-US" sz="2700" spc="-1" strike="noStrike">
                <a:solidFill>
                  <a:srgbClr val="ff0000"/>
                </a:solidFill>
                <a:latin typeface="Century Gothic"/>
              </a:rPr>
              <a:t>two</a:t>
            </a:r>
            <a:r>
              <a:rPr b="1" lang="en-US" sz="2700" spc="-1" strike="noStrike">
                <a:solidFill>
                  <a:srgbClr val="898989"/>
                </a:solidFill>
                <a:latin typeface="Century Gothic"/>
              </a:rPr>
              <a:t> or more times 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to be able to </a:t>
            </a:r>
            <a:r>
              <a:rPr b="1" lang="en-US" sz="2700" spc="-1" strike="noStrike">
                <a:solidFill>
                  <a:srgbClr val="898989"/>
                </a:solidFill>
                <a:latin typeface="Century Gothic"/>
              </a:rPr>
              <a:t>actively engage 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it.  The following guide will help you develop critical reading skills.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The Rhetoric of Read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7" name="Diagram 2" descr=""/>
          <p:cNvPicPr/>
          <p:nvPr/>
        </p:nvPicPr>
        <p:blipFill>
          <a:blip r:embed="rId1"/>
          <a:stretch/>
        </p:blipFill>
        <p:spPr>
          <a:xfrm>
            <a:off x="1139760" y="2127240"/>
            <a:ext cx="7248600" cy="4365720"/>
          </a:xfrm>
          <a:prstGeom prst="rect">
            <a:avLst/>
          </a:prstGeom>
          <a:ln w="0">
            <a:noFill/>
          </a:ln>
        </p:spPr>
      </p:pic>
      <p:sp>
        <p:nvSpPr>
          <p:cNvPr id="348" name="Flowchart: Decision 4"/>
          <p:cNvSpPr/>
          <p:nvPr/>
        </p:nvSpPr>
        <p:spPr>
          <a:xfrm>
            <a:off x="3992400" y="4021200"/>
            <a:ext cx="1678320" cy="914400"/>
          </a:xfrm>
          <a:prstGeom prst="flowChartDecision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4066920" y="424656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350" name="Straight Arrow Connector 5"/>
          <p:cNvCxnSpPr/>
          <p:nvPr/>
        </p:nvCxnSpPr>
        <p:spPr>
          <a:xfrm>
            <a:off x="2437920" y="3352320"/>
            <a:ext cx="2210760" cy="894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1" name="TextBox 8"/>
          <p:cNvSpPr/>
          <p:nvPr/>
        </p:nvSpPr>
        <p:spPr>
          <a:xfrm>
            <a:off x="685800" y="228600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ader actively constructs meaning – combining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ll you know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TextBox 9"/>
          <p:cNvSpPr/>
          <p:nvPr/>
        </p:nvSpPr>
        <p:spPr>
          <a:xfrm>
            <a:off x="5943600" y="22860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knowledge about the autho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6629400" y="46483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knowledge about the text or stor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TextBox 11"/>
          <p:cNvSpPr/>
          <p:nvPr/>
        </p:nvSpPr>
        <p:spPr>
          <a:xfrm>
            <a:off x="457200" y="48006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knowledge about the audienc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Diagram 1" descr=""/>
          <p:cNvPicPr/>
          <p:nvPr/>
        </p:nvPicPr>
        <p:blipFill>
          <a:blip r:embed="rId1"/>
          <a:stretch/>
        </p:blipFill>
        <p:spPr>
          <a:xfrm>
            <a:off x="165240" y="835200"/>
            <a:ext cx="89978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Reading Scientificall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7" name="Diagram 3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3217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8960" y="3352680"/>
            <a:ext cx="66373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entury Gothic"/>
              </a:rPr>
              <a:t>Re-reading Critically</a:t>
            </a:r>
            <a:br>
              <a:rPr sz="4000"/>
            </a:b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omplete Assignment #1</a:t>
            </a:r>
            <a:br>
              <a:rPr sz="4000"/>
            </a:b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to make a </a:t>
            </a:r>
            <a:br>
              <a:rPr sz="4000"/>
            </a:b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ritical Reading of: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Title 1"/>
          <p:cNvSpPr/>
          <p:nvPr/>
        </p:nvSpPr>
        <p:spPr>
          <a:xfrm>
            <a:off x="1066680" y="4649760"/>
            <a:ext cx="70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The Ant and the Grasshopper”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by Aesop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0:09:00Z</dcterms:created>
  <dc:creator>Sally Everson</dc:creator>
  <dc:description/>
  <dc:language>en-US</dc:language>
  <cp:lastModifiedBy>Petra</cp:lastModifiedBy>
  <dcterms:modified xsi:type="dcterms:W3CDTF">2011-09-07T21:21:49Z</dcterms:modified>
  <cp:revision>28</cp:revision>
  <dc:subject/>
  <dc:title>Fiction – Introduction to Literature</dc:title>
</cp:coreProperties>
</file>